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500-9930-4DA2-8C84-C24FA83B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C14-96DF-4ACB-B513-7BD5D5F9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B14794-CF04-4BAA-8703-0ADE520E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98FDD0-19AE-44DC-844F-DA8A4758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01663C-B05A-4772-B601-7701BDB3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471F6C-9D0C-44C9-8C6F-30DEFEFB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729D8C-8343-4EE4-8B0C-B8D6C016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DD1363-16FB-4A7B-A2FE-045F2A35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142026-F6C5-4F69-8B69-EDDE43AE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95DC8D-E1B6-4D64-BDEF-682758D6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5A439E-06AF-4296-9AC7-EECF6A8D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55828B-D338-4969-8006-50B6580B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CD9-B778-4134-B296-8A7E9C1B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3EB7CF-9AF4-4BFA-A5A6-F87CC766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AC72A7-2014-400A-8340-FDBDE849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E888A2-58C1-4A0C-8A68-9C462DCC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D42F7A-8A4E-44F1-8C49-377D7035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1FA82C-CA29-4D90-A5D0-E08D8B19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1D043E-0202-42C1-B809-4B827912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4A4E89-D670-4D4D-8F85-180D8FF2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31390B-29BF-4C0C-A3EB-0E5CF8ED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C6BFEF-17F7-46CD-9005-687D9467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BF54E9-941E-4FA4-8F69-CA8AEEF1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47B-C781-457F-837A-F2E315FE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E9C3A3-07D7-4DE5-9445-889D3AFE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5F0EF-B90F-4E48-9559-5A1DE860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4A19C-80AF-4F4F-9C73-631C5F9E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3C665-C720-4174-83FB-C60FFDEB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E8FE5-CAE0-48BF-A05F-FAC4FCB0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90B6F-48B7-4E44-95CB-D466E080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1F229-EE68-4390-8513-9DD33016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61AD4-D350-4779-BF3A-7414DDDA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72AC8-39E2-4DD4-903B-D5873EC1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26531-AABE-4BCE-A953-FAC0A756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E013-A6DF-4A13-A001-60D5C1D4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238F9-0C44-4DF9-AF17-A869E60D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DC955-F084-4C96-AC76-AA75B60D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EF906-AC82-4861-8C33-F2C0CB73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63836-6377-4CEB-8638-CF9134F6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931EF-C34E-482B-B3B6-804AD126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D249E-B8DD-4185-A364-B01E9A36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36A74-D378-4FFF-91AE-9CB0CA89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91916-9E7B-4C57-A7DF-D05CE47F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9FD37-301D-41D9-A3FA-E5878C75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4B6AC-030A-43A8-8256-E5DF4935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C701-8E05-4C4E-9074-12F6A6D0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E85A1-0E04-49C8-BE95-3D3BAA53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F2AEA-8178-4AC0-843B-FA676AE3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834C4-B8E0-4972-ACA7-A0CF5B57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EF905-33B8-4215-9D0C-FF8A1DD5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A712A-252F-4243-8F75-4C5EBE5D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872E-B53B-475B-8811-62C5514D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1191-4AB0-42D0-B027-4C2E73BD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0BE4-36F5-4BA0-932F-15F6E261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D901-4D57-4DA5-BB4A-84904080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C637-7394-43B7-A86C-D011F25B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6FA-85EA-46AD-B29A-47661AE7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54E6-D423-4BED-B840-6CB9C9D5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3080-2033-4699-9C93-78E71628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8ADB-3E21-4EEF-9416-28147AB3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9552-5793-423B-BB87-19C7E4A3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6C52-FC9B-4258-93DC-9B714DDF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11EF4-D3CB-4BBB-90E9-CA1649A4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69B96-811A-47BC-8B5B-72AD88E8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FCFA8-CFAD-46AA-AEA1-F87FC594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0E84F-50CB-4D67-898F-5A518F23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DEB74-CD81-4CB2-87A2-8BEEBE5D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043-F388-40BF-ABA6-614F760F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7233F-C434-45E2-967A-B00D857C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70528-A8A0-4783-883D-082E7CF0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4A9A9-C043-4AD5-9A08-70D3D454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AB410-2737-48E6-8B42-DAEF4FC9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D56D5-BBD5-4D3E-8384-08747EBF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34C8A-A1CD-4B33-A55B-2F617B1F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A666D-5F7A-45E8-B937-398026F9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9E905-A4DE-4D3F-A711-61649388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2A5A4-8268-4A26-817D-6183442D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BBC36-003C-4FE6-8E39-2229A909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B98-62C7-409E-BB9F-C018B3AC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C2A69-7EC6-455D-B441-8644EF67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0E31E-D90A-4B73-B87C-39F46CB6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D1860-45ED-49A5-90B0-D5E706D5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E4965-9A8F-42EB-BB82-C743A7E3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91C75-A798-48A1-B43F-B6597F40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00ADA-1290-4BB4-B88B-35652570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32D36-B0F9-4868-AAB6-303348BF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D554A-E14C-4903-B55E-924B2936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CB72D-F28C-4A37-AC7D-0F9A057D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74AF2-2832-4810-B4B8-999D4FAE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009-FF44-4FB6-8F8C-F2DE73F0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B4722-D203-44E9-929E-8ECF93E2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7B761-E27A-46AF-A015-2A679C47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8285E-8FC4-4AA8-B931-A725C1A7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527CC-35DC-4D15-B91C-8F23A198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DFD8F-2941-4B92-81F3-0B7091C0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CC0CB-D976-4839-A8E8-E95B3D1C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5CF52-E02A-485C-B622-0DBC12AA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20FA5-7818-4C38-A4E0-C2CBE8AD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3DD7C-ABB2-4AA1-AB04-C7B0354E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8FC64-B0CF-4443-849A-3C5528BF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AF44-F6CB-4446-B817-FAA034D4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DE83C-E82E-440E-86CD-89A4FA92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8EEDA-E263-4497-BCEA-BF6F07B9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372B8-2BFE-4B45-8814-B2D7C15F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28EB8-BC3D-47CC-8318-8DBA0084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14239-76BF-4EED-91B7-16B02265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3AA07-4F91-4966-A853-FEA7FE4B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A1C2A-9ADE-45CD-9AB9-F94BFDAB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6FE15-30E4-46D0-9941-BB8CF48F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525B5-8238-42CC-841F-80371E26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89372-2648-48A0-A7B4-DCE8FE70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FC6-BD21-4893-A4C9-43BC1EEF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939F3-9D9C-4C9D-A79F-1F7BE561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EF2BE-F39E-4D4C-A661-4F6BD893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A736A-4182-45B0-9A58-52C85698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5C52B5-98D3-4A41-8119-8FC5CDBA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F25CA0-AA08-4FFA-926A-33405F17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332E58-1A6A-4E04-B8A3-329404F0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0E9B6C-4CCD-4E65-B1BB-EB8F2879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5EB5DD-A727-41FF-B2DE-B42FC0A8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E67CE-5764-4073-8231-78C3C82E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F862E0-1154-4B9B-9368-2A48C253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239-5DE6-4472-88B4-716FD0D7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2CA7E-CD32-46CE-B75B-EC8D88D5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37CA7D-5925-4FC7-B7BA-B7BC7C04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44E6BF-1FFA-4724-A9DB-A082CA90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FF706C-6D99-4DA6-A3EE-62C4595F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E96217-7EFC-4930-993F-2203CF59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6C948-A923-4644-949B-D117DA6A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4FB31-17B8-44D2-A36C-FAD1805A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51633-CE72-4CC5-BF8B-7DB77F76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B5663-B150-4E9E-9984-C1B57855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DB49D-AAD5-4952-A7B3-4096A27E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BF2-436E-4917-849B-58CCE35D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AF018-3798-4277-8DF0-0F46AEDC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A38DC-0F70-42B0-8DAB-12C0FC23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86D42-95D0-4CBC-AA29-F596179F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7D9FB-0670-445D-91AF-FE766FF3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D5338-3B63-46F1-9491-7E76E591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380EE-BDA6-47B2-928D-B5F53009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85B54-6333-41CB-83DF-7FC0E0F4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1284AD-7952-4DDA-A782-B379A9F5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A4D086-319B-4CC7-BCA9-8D907AA8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14E6F4-3112-4FF3-9F27-10B72051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25AD-D7CA-4FAA-936D-1028ECB63F43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D15F-B316-444F-AE84-7568389D06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8842-4787-4AAD-884B-1766192BDFD7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DC7D-C245-40A8-BD50-6A4671F8C1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905E-4B15-4043-9F11-7354F4D9DF48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8B77-EBCA-4416-BA9F-945EF79813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036B-667D-48D4-A6EF-66DDBCAF0276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11DD-7D5A-40B8-93D1-129BF4AA81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7CC2-FFA8-4BD4-9752-A0B41A33A219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09C0-A32C-47DB-9E42-DBDF4FE02B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0FC4-EC28-4574-B473-79FBA405FAA4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C409-F3C7-4390-90E0-7F9316FB84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BAFB-44B2-4FBF-952F-9AC01658157C}" type="datetime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DA11-304D-4F66-AD3F-14775427E2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D982-EFD1-4863-A4F5-E94CADF02F38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95B8-B4B8-4AFE-BF21-32E0A913B6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0B88-88E7-4DCB-B73F-559496FD9196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B1F4-C4F4-4837-958A-B86561F54E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0264-7588-47D7-A66E-A54059A69B04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2F67-87BF-4FD1-A6AE-443C13E2B8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D3E2-33F0-4F31-A92B-51A374EFC330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55F4-31CE-4728-8F60-C9F3ABD27CE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62DD-61FE-458F-8A01-A27A1C2B1DCA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2DCA-0118-46FC-A5A7-E66DB324CF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142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Century Schoolbook"/>
              </a:rPr>
              <a:t>UNCOLLECTABLE ACCOUNTS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POSTING AN ADJUSTING ENTRY FOR UNCOLLECTIBLE ACCOUNTS EXPENSE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51" name="Picture 4" descr="D:\C21 PowerPoint\Multi_Journal\art for blue\Ch20\Ch20-01b.jpg"/>
          <p:cNvPicPr/>
          <p:nvPr/>
        </p:nvPicPr>
        <p:blipFill>
          <a:blip r:embed="rId1"/>
          <a:srcRect l="12380" t="0" r="0" b="37650"/>
          <a:stretch/>
        </p:blipFill>
        <p:spPr>
          <a:xfrm>
            <a:off x="457200" y="1143000"/>
            <a:ext cx="5932440" cy="510552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13"/>
          <p:cNvGrpSpPr/>
          <p:nvPr/>
        </p:nvGrpSpPr>
        <p:grpSpPr>
          <a:xfrm>
            <a:off x="3710160" y="2209680"/>
            <a:ext cx="457200" cy="3810240"/>
            <a:chOff x="3710160" y="2209680"/>
            <a:chExt cx="457200" cy="3810240"/>
          </a:xfrm>
        </p:grpSpPr>
        <p:sp>
          <p:nvSpPr>
            <p:cNvPr id="653" name="Line 5"/>
            <p:cNvSpPr/>
            <p:nvPr/>
          </p:nvSpPr>
          <p:spPr>
            <a:xfrm>
              <a:off x="3962520" y="2209680"/>
              <a:ext cx="0" cy="38102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Oval 9"/>
            <p:cNvSpPr/>
            <p:nvPr/>
          </p:nvSpPr>
          <p:spPr>
            <a:xfrm>
              <a:off x="3710160" y="236232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14"/>
          <p:cNvGrpSpPr/>
          <p:nvPr/>
        </p:nvGrpSpPr>
        <p:grpSpPr>
          <a:xfrm>
            <a:off x="4260960" y="2362320"/>
            <a:ext cx="457200" cy="2590560"/>
            <a:chOff x="4260960" y="2362320"/>
            <a:chExt cx="457200" cy="2590560"/>
          </a:xfrm>
        </p:grpSpPr>
        <p:sp>
          <p:nvSpPr>
            <p:cNvPr id="656" name="Line 8"/>
            <p:cNvSpPr/>
            <p:nvPr/>
          </p:nvSpPr>
          <p:spPr>
            <a:xfrm>
              <a:off x="4495680" y="2362320"/>
              <a:ext cx="0" cy="2590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4260960" y="25146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Text Box 11"/>
          <p:cNvSpPr/>
          <p:nvPr/>
        </p:nvSpPr>
        <p:spPr>
          <a:xfrm>
            <a:off x="5029200" y="11430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e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12"/>
          <p:cNvSpPr/>
          <p:nvPr/>
        </p:nvSpPr>
        <p:spPr>
          <a:xfrm>
            <a:off x="5029200" y="150804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0-1, page 5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66760" y="228600"/>
            <a:ext cx="78487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Century Schoolbook"/>
              </a:rPr>
              <a:t>Accounting  for Uncollectable </a:t>
            </a:r>
            <a:br>
              <a:rPr sz="3800"/>
            </a:br>
            <a:r>
              <a:rPr b="0" lang="en-US" sz="3800" spc="-1" strike="noStrike">
                <a:solidFill>
                  <a:srgbClr val="ff6600"/>
                </a:solidFill>
                <a:latin typeface="Century Schoolbook"/>
              </a:rPr>
              <a:t>Accounts Receivable</a:t>
            </a:r>
            <a:endParaRPr b="0" lang="en-US" sz="3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9" name="TextBox 2"/>
          <p:cNvSpPr/>
          <p:nvPr/>
        </p:nvSpPr>
        <p:spPr>
          <a:xfrm>
            <a:off x="285840" y="1828800"/>
            <a:ext cx="78105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Businesses sell to customers on account to encourage sal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Businesses conduct credit investigations of customer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ome accounts receivable will never be collected – </a:t>
            </a:r>
            <a:r>
              <a:rPr b="1" lang="en-US" sz="3100" spc="-1" strike="noStrike">
                <a:solidFill>
                  <a:srgbClr val="ff6600"/>
                </a:solidFill>
                <a:latin typeface="Times New Roman"/>
              </a:rPr>
              <a:t>Uncollectable Accou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6676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Century Schoolbook"/>
              </a:rPr>
              <a:t>Uncollectable Accounts cont…</a:t>
            </a:r>
            <a:endParaRPr b="0" lang="en-US" sz="3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1" name="TextBox 3"/>
          <p:cNvSpPr/>
          <p:nvPr/>
        </p:nvSpPr>
        <p:spPr>
          <a:xfrm>
            <a:off x="534960" y="1447920"/>
            <a:ext cx="7311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amount that is uncollectable is recorded as an </a:t>
            </a:r>
            <a:r>
              <a:rPr b="0" lang="en-US" sz="2900" spc="-1" strike="noStrike" u="sng">
                <a:solidFill>
                  <a:srgbClr val="ff6600"/>
                </a:solidFill>
                <a:uFillTx/>
                <a:latin typeface="Times New Roman"/>
              </a:rPr>
              <a:t>expense</a:t>
            </a:r>
            <a:r>
              <a:rPr b="0" lang="en-US" sz="2900" spc="-1" strike="noStrike">
                <a:solidFill>
                  <a:srgbClr val="ff6600"/>
                </a:solidFill>
                <a:latin typeface="Times New Roman"/>
              </a:rPr>
              <a:t> – Uncollectable Accounts Expen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s type of transaction is considered a regular expense doing business and does not affect the business’ revenu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sale is not cancell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66760" y="228600"/>
            <a:ext cx="78487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Century Schoolbook"/>
              </a:rPr>
              <a:t>Estimating and Recording Uncollectable Accounts Expense</a:t>
            </a:r>
            <a:endParaRPr b="0" lang="en-US" sz="3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3" name="TextBox 3"/>
          <p:cNvSpPr/>
          <p:nvPr/>
        </p:nvSpPr>
        <p:spPr>
          <a:xfrm>
            <a:off x="304920" y="17524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ale occurs on a account the business is taking a r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financial reporting requires that expenses be recorded in the fiscal period in which the expenses contribute to earning reven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businesses do not know which accounts will become uncollectable, a business can record an estimated amount of Uncollectable Accounts Exp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66760" y="228600"/>
            <a:ext cx="78487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Century Schoolbook"/>
              </a:rPr>
              <a:t>Estimating and Recording Uncollectable Accounts Expense</a:t>
            </a:r>
            <a:endParaRPr b="0" lang="en-US" sz="3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5" name="TextBox 3"/>
          <p:cNvSpPr/>
          <p:nvPr/>
        </p:nvSpPr>
        <p:spPr>
          <a:xfrm>
            <a:off x="304920" y="1752480"/>
            <a:ext cx="77724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6600"/>
                </a:solidFill>
                <a:uFillTx/>
                <a:latin typeface="Times New Roman"/>
              </a:rPr>
              <a:t>Two Benefits for a Busines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1.) Reports a balance sheet amount for Accounts Receivable that reflects the amount the business expects to collect in the futur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2.) Recognizes the expense of uncollectable accounts in the same accounting period in which the related revenue is recorde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6600"/>
                </a:solidFill>
                <a:latin typeface="Century Schoolbook"/>
              </a:rPr>
              <a:t>ALLOWANCE METHOD OF RECORDING LOSSES FROM UNCOLLECTIBLE ACCOUNT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7" name="TextBox 3"/>
          <p:cNvSpPr/>
          <p:nvPr/>
        </p:nvSpPr>
        <p:spPr>
          <a:xfrm>
            <a:off x="457200" y="1447920"/>
            <a:ext cx="746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Book 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The difference an asset’s account balance and its related contra account bal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Book Value of Account’s Receiv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The difference between the balance of Account’s Receivable and its contra account, Allowance for Uncollectable Accou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value reported on the balance sheet represents the total amount that the business expects to collect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6600"/>
                </a:solidFill>
                <a:latin typeface="Century Schoolbook"/>
              </a:rPr>
              <a:t>ALLOWANCE METHOD OF RECORDING LOSSES FROM UNCOLLECTIBLE ACCOUNT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599" name="Group 40"/>
          <p:cNvGrpSpPr/>
          <p:nvPr/>
        </p:nvGrpSpPr>
        <p:grpSpPr>
          <a:xfrm>
            <a:off x="1295280" y="1280880"/>
            <a:ext cx="5794200" cy="957600"/>
            <a:chOff x="1295280" y="1280880"/>
            <a:chExt cx="5794200" cy="957600"/>
          </a:xfrm>
        </p:grpSpPr>
        <p:sp>
          <p:nvSpPr>
            <p:cNvPr id="600" name="Text Box 7"/>
            <p:cNvSpPr/>
            <p:nvPr/>
          </p:nvSpPr>
          <p:spPr>
            <a:xfrm>
              <a:off x="2061720" y="1280880"/>
              <a:ext cx="411264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collectible Accounts Expen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" name="Group 8"/>
            <p:cNvGrpSpPr/>
            <p:nvPr/>
          </p:nvGrpSpPr>
          <p:grpSpPr>
            <a:xfrm>
              <a:off x="1295280" y="1781280"/>
              <a:ext cx="5794200" cy="457200"/>
              <a:chOff x="1295280" y="1781280"/>
              <a:chExt cx="5794200" cy="457200"/>
            </a:xfrm>
          </p:grpSpPr>
          <p:sp>
            <p:nvSpPr>
              <p:cNvPr id="602" name="Line 9"/>
              <p:cNvSpPr/>
              <p:nvPr/>
            </p:nvSpPr>
            <p:spPr>
              <a:xfrm>
                <a:off x="1295280" y="1781280"/>
                <a:ext cx="57942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Line 10"/>
              <p:cNvSpPr/>
              <p:nvPr/>
            </p:nvSpPr>
            <p:spPr>
              <a:xfrm>
                <a:off x="4118040" y="1781280"/>
                <a:ext cx="0" cy="4572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4" name="Group 15"/>
          <p:cNvGrpSpPr/>
          <p:nvPr/>
        </p:nvGrpSpPr>
        <p:grpSpPr>
          <a:xfrm>
            <a:off x="1295280" y="2943000"/>
            <a:ext cx="5793840" cy="957600"/>
            <a:chOff x="1295280" y="2943000"/>
            <a:chExt cx="5793840" cy="957600"/>
          </a:xfrm>
        </p:grpSpPr>
        <p:sp>
          <p:nvSpPr>
            <p:cNvPr id="605" name="Text Box 16"/>
            <p:cNvSpPr/>
            <p:nvPr/>
          </p:nvSpPr>
          <p:spPr>
            <a:xfrm>
              <a:off x="2739240" y="2943000"/>
              <a:ext cx="274248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counts Receiv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Group 17"/>
            <p:cNvGrpSpPr/>
            <p:nvPr/>
          </p:nvGrpSpPr>
          <p:grpSpPr>
            <a:xfrm>
              <a:off x="1295280" y="3443400"/>
              <a:ext cx="5793840" cy="457200"/>
              <a:chOff x="1295280" y="3443400"/>
              <a:chExt cx="5793840" cy="457200"/>
            </a:xfrm>
          </p:grpSpPr>
          <p:sp>
            <p:nvSpPr>
              <p:cNvPr id="607" name="Line 18"/>
              <p:cNvSpPr/>
              <p:nvPr/>
            </p:nvSpPr>
            <p:spPr>
              <a:xfrm>
                <a:off x="1295280" y="3443400"/>
                <a:ext cx="579384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Line 19"/>
              <p:cNvSpPr/>
              <p:nvPr/>
            </p:nvSpPr>
            <p:spPr>
              <a:xfrm>
                <a:off x="4118040" y="3443400"/>
                <a:ext cx="0" cy="4572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9" name="Group 24"/>
          <p:cNvGrpSpPr/>
          <p:nvPr/>
        </p:nvGrpSpPr>
        <p:grpSpPr>
          <a:xfrm>
            <a:off x="1295280" y="4605120"/>
            <a:ext cx="5793840" cy="957600"/>
            <a:chOff x="1295280" y="4605120"/>
            <a:chExt cx="5793840" cy="957600"/>
          </a:xfrm>
        </p:grpSpPr>
        <p:sp>
          <p:nvSpPr>
            <p:cNvPr id="610" name="Text Box 25"/>
            <p:cNvSpPr/>
            <p:nvPr/>
          </p:nvSpPr>
          <p:spPr>
            <a:xfrm>
              <a:off x="1741320" y="4605120"/>
              <a:ext cx="473436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llowance for Uncollectible Accou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Group 26"/>
            <p:cNvGrpSpPr/>
            <p:nvPr/>
          </p:nvGrpSpPr>
          <p:grpSpPr>
            <a:xfrm>
              <a:off x="1295280" y="5105520"/>
              <a:ext cx="5793840" cy="457200"/>
              <a:chOff x="1295280" y="5105520"/>
              <a:chExt cx="5793840" cy="457200"/>
            </a:xfrm>
          </p:grpSpPr>
          <p:sp>
            <p:nvSpPr>
              <p:cNvPr id="612" name="Line 27"/>
              <p:cNvSpPr/>
              <p:nvPr/>
            </p:nvSpPr>
            <p:spPr>
              <a:xfrm>
                <a:off x="1295280" y="5105520"/>
                <a:ext cx="579384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Line 28"/>
              <p:cNvSpPr/>
              <p:nvPr/>
            </p:nvSpPr>
            <p:spPr>
              <a:xfrm>
                <a:off x="4118040" y="5105520"/>
                <a:ext cx="0" cy="4572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Group 39"/>
          <p:cNvGrpSpPr/>
          <p:nvPr/>
        </p:nvGrpSpPr>
        <p:grpSpPr>
          <a:xfrm>
            <a:off x="1295280" y="1825560"/>
            <a:ext cx="5943600" cy="3723120"/>
            <a:chOff x="1295280" y="1825560"/>
            <a:chExt cx="5943600" cy="3723120"/>
          </a:xfrm>
        </p:grpSpPr>
        <p:sp>
          <p:nvSpPr>
            <p:cNvPr id="615" name="Text Box 12"/>
            <p:cNvSpPr/>
            <p:nvPr/>
          </p:nvSpPr>
          <p:spPr>
            <a:xfrm>
              <a:off x="1295280" y="1825560"/>
              <a:ext cx="59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600200"/>
                  <a:tab algn="ctr" pos="38815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21"/>
            <p:cNvSpPr/>
            <p:nvPr/>
          </p:nvSpPr>
          <p:spPr>
            <a:xfrm>
              <a:off x="1295280" y="3532320"/>
              <a:ext cx="59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600200"/>
                  <a:tab algn="ctr" pos="38815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bit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30"/>
            <p:cNvSpPr/>
            <p:nvPr/>
          </p:nvSpPr>
          <p:spPr>
            <a:xfrm>
              <a:off x="1295280" y="5149800"/>
              <a:ext cx="59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600200"/>
                  <a:tab algn="ctr" pos="38815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bit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AutoShape 32"/>
          <p:cNvSpPr/>
          <p:nvPr/>
        </p:nvSpPr>
        <p:spPr>
          <a:xfrm>
            <a:off x="2133720" y="2133720"/>
            <a:ext cx="171108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33"/>
          <p:cNvSpPr/>
          <p:nvPr/>
        </p:nvSpPr>
        <p:spPr>
          <a:xfrm flipV="1">
            <a:off x="2133720" y="5486400"/>
            <a:ext cx="171108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34"/>
          <p:cNvSpPr/>
          <p:nvPr/>
        </p:nvSpPr>
        <p:spPr>
          <a:xfrm>
            <a:off x="2133720" y="3886200"/>
            <a:ext cx="171108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35"/>
          <p:cNvSpPr/>
          <p:nvPr/>
        </p:nvSpPr>
        <p:spPr>
          <a:xfrm flipV="1">
            <a:off x="4425840" y="3886200"/>
            <a:ext cx="171144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36"/>
          <p:cNvSpPr/>
          <p:nvPr/>
        </p:nvSpPr>
        <p:spPr>
          <a:xfrm>
            <a:off x="4425840" y="5486400"/>
            <a:ext cx="171144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37"/>
          <p:cNvSpPr/>
          <p:nvPr/>
        </p:nvSpPr>
        <p:spPr>
          <a:xfrm flipV="1">
            <a:off x="4425840" y="2133720"/>
            <a:ext cx="171144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STIMATING UNCOLLECTIBLE ACCOUNTS EXPEN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625" name="Group 24"/>
          <p:cNvGrpSpPr/>
          <p:nvPr/>
        </p:nvGrpSpPr>
        <p:grpSpPr>
          <a:xfrm>
            <a:off x="441000" y="3809880"/>
            <a:ext cx="8509680" cy="2514600"/>
            <a:chOff x="441000" y="3809880"/>
            <a:chExt cx="8509680" cy="2514600"/>
          </a:xfrm>
        </p:grpSpPr>
        <p:sp>
          <p:nvSpPr>
            <p:cNvPr id="626" name="Rectangle 19"/>
            <p:cNvSpPr/>
            <p:nvPr/>
          </p:nvSpPr>
          <p:spPr>
            <a:xfrm>
              <a:off x="457200" y="3886200"/>
              <a:ext cx="8229600" cy="243828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" name="Group 22"/>
            <p:cNvGrpSpPr/>
            <p:nvPr/>
          </p:nvGrpSpPr>
          <p:grpSpPr>
            <a:xfrm>
              <a:off x="441000" y="3809880"/>
              <a:ext cx="8509680" cy="1704960"/>
              <a:chOff x="441000" y="3809880"/>
              <a:chExt cx="8509680" cy="1704960"/>
            </a:xfrm>
          </p:grpSpPr>
          <p:grpSp>
            <p:nvGrpSpPr>
              <p:cNvPr id="628" name="Group 14"/>
              <p:cNvGrpSpPr/>
              <p:nvPr/>
            </p:nvGrpSpPr>
            <p:grpSpPr>
              <a:xfrm>
                <a:off x="457200" y="3809880"/>
                <a:ext cx="858600" cy="858600"/>
                <a:chOff x="457200" y="3809880"/>
                <a:chExt cx="858600" cy="858600"/>
              </a:xfrm>
            </p:grpSpPr>
            <p:sp>
              <p:nvSpPr>
                <p:cNvPr id="629" name="Text Box 15"/>
                <p:cNvSpPr/>
                <p:nvPr/>
              </p:nvSpPr>
              <p:spPr>
                <a:xfrm>
                  <a:off x="457200" y="380988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Text Box 16"/>
                <p:cNvSpPr/>
                <p:nvPr/>
              </p:nvSpPr>
              <p:spPr>
                <a:xfrm>
                  <a:off x="914400" y="380988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Text Box 17"/>
                <p:cNvSpPr/>
                <p:nvPr/>
              </p:nvSpPr>
              <p:spPr>
                <a:xfrm>
                  <a:off x="457200" y="426996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Text Box 18"/>
                <p:cNvSpPr/>
                <p:nvPr/>
              </p:nvSpPr>
              <p:spPr>
                <a:xfrm>
                  <a:off x="914400" y="426852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3" name="Text Box 20"/>
              <p:cNvSpPr/>
              <p:nvPr/>
            </p:nvSpPr>
            <p:spPr>
              <a:xfrm>
                <a:off x="441000" y="4689360"/>
                <a:ext cx="8509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861840"/>
                    <a:tab algn="ctr" pos="2282760"/>
                    <a:tab algn="ctr" pos="3665520"/>
                    <a:tab algn="ctr" pos="4906800"/>
                    <a:tab algn="ctr" pos="686592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tal Sale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timate Uncollectib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ctr" pos="861840"/>
                    <a:tab algn="ctr" pos="2282760"/>
                    <a:tab algn="ctr" pos="3665520"/>
                    <a:tab algn="ctr" pos="4906800"/>
                    <a:tab algn="ctr" pos="686592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n Accoun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ercentag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counts Expens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Text Box 21"/>
          <p:cNvSpPr/>
          <p:nvPr/>
        </p:nvSpPr>
        <p:spPr>
          <a:xfrm>
            <a:off x="441360" y="563256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861840"/>
                <a:tab algn="ctr" pos="2282760"/>
                <a:tab algn="ctr" pos="3665520"/>
                <a:tab algn="ctr" pos="4906800"/>
                <a:tab algn="ctr" pos="6865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982,800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9,828.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7344360" y="678096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0-1, page 5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533520" y="214164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sinesses use a percentage of total sales on account to estimate this exp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5493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NALYZING AND JOURNALIZING AN ADJUSTMENT FOR UNCOLLECTIBLE ACCOUNTS EXPENSE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38" name="Picture 4" descr="D:\C21 PowerPoint\Multi_Journal\art for blue\Ch20\Ch20-01a.jpg"/>
          <p:cNvPicPr/>
          <p:nvPr/>
        </p:nvPicPr>
        <p:blipFill>
          <a:blip r:embed="rId1"/>
          <a:srcRect l="13213" t="0" r="0" b="62462"/>
          <a:stretch/>
        </p:blipFill>
        <p:spPr>
          <a:xfrm>
            <a:off x="457200" y="1477800"/>
            <a:ext cx="7315200" cy="3848400"/>
          </a:xfrm>
          <a:prstGeom prst="rect">
            <a:avLst/>
          </a:prstGeom>
          <a:ln w="0">
            <a:noFill/>
          </a:ln>
        </p:spPr>
      </p:pic>
      <p:sp>
        <p:nvSpPr>
          <p:cNvPr id="639" name="Oval 6"/>
          <p:cNvSpPr/>
          <p:nvPr/>
        </p:nvSpPr>
        <p:spPr>
          <a:xfrm>
            <a:off x="7620120" y="201132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9"/>
          <p:cNvSpPr/>
          <p:nvPr/>
        </p:nvSpPr>
        <p:spPr>
          <a:xfrm>
            <a:off x="5181480" y="24685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10"/>
          <p:cNvSpPr/>
          <p:nvPr/>
        </p:nvSpPr>
        <p:spPr>
          <a:xfrm>
            <a:off x="514440" y="623880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the adjusting e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11"/>
          <p:cNvSpPr/>
          <p:nvPr/>
        </p:nvSpPr>
        <p:spPr>
          <a:xfrm>
            <a:off x="514440" y="5500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nter and label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3"/>
          <p:cNvSpPr/>
          <p:nvPr/>
        </p:nvSpPr>
        <p:spPr>
          <a:xfrm>
            <a:off x="514440" y="586584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and label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17"/>
          <p:cNvGrpSpPr/>
          <p:nvPr/>
        </p:nvGrpSpPr>
        <p:grpSpPr>
          <a:xfrm>
            <a:off x="5891040" y="2392200"/>
            <a:ext cx="1617840" cy="2590920"/>
            <a:chOff x="5891040" y="2392200"/>
            <a:chExt cx="1617840" cy="2590920"/>
          </a:xfrm>
        </p:grpSpPr>
        <p:sp>
          <p:nvSpPr>
            <p:cNvPr id="645" name="Line 15"/>
            <p:cNvSpPr/>
            <p:nvPr/>
          </p:nvSpPr>
          <p:spPr>
            <a:xfrm>
              <a:off x="6172200" y="2849400"/>
              <a:ext cx="0" cy="19051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6"/>
            <p:cNvSpPr/>
            <p:nvPr/>
          </p:nvSpPr>
          <p:spPr>
            <a:xfrm>
              <a:off x="7238880" y="2392200"/>
              <a:ext cx="0" cy="25909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Oval 7"/>
            <p:cNvSpPr/>
            <p:nvPr/>
          </p:nvSpPr>
          <p:spPr>
            <a:xfrm>
              <a:off x="5891040" y="30780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Oval 8"/>
            <p:cNvSpPr/>
            <p:nvPr/>
          </p:nvSpPr>
          <p:spPr>
            <a:xfrm>
              <a:off x="6975360" y="30780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Text Box 18"/>
          <p:cNvSpPr/>
          <p:nvPr/>
        </p:nvSpPr>
        <p:spPr>
          <a:xfrm>
            <a:off x="7344360" y="65062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0-1, page 5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8:11:58Z</dcterms:created>
  <dc:creator>Mary Colleen McLaughlin</dc:creator>
  <dc:description/>
  <dc:language>en-US</dc:language>
  <cp:lastModifiedBy>David Combs</cp:lastModifiedBy>
  <dcterms:modified xsi:type="dcterms:W3CDTF">2011-10-02T21:37:32Z</dcterms:modified>
  <cp:revision>62</cp:revision>
  <dc:subject/>
  <dc:title>ADJUSTING ENTRY FOR SUPPLIES</dc:title>
</cp:coreProperties>
</file>